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C7E-50D7-4F30-8967-E6D4D9F2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608-D5DA-423E-BA04-3CCD35C0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840-5E06-4674-9745-DF4DD967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A20-63F3-44EC-9F75-27EF169E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636-75BA-4B84-BE6A-8C61439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E16-44C9-4676-BC1E-C712AA0C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DCD-D5B2-4111-A0CE-D366FB2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8FC-D309-40BB-9E5E-86021699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908-6F3D-4E56-9BC4-64FA35DD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430-A681-4278-AC01-BE93380D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584-429B-47B0-9E65-8079C327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0AD-5055-499A-B0C1-895EC60F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AA76-7F67-43F0-9FEF-32423040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ango problem with 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ngo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ket of mangos was delivered to the pa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g took 1/6 of the ma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queen took 1/5 of the ma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incess took 1/4 of the ma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ince took 1/3 of the mang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duchess took 1/2 of the mang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ft only 3 mangos in the bowl for the serv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angos were originally in the bas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uler is the 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 and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multiple of 6    Let’s pick 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6 of 6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5 of 5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4 of 4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of 3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 of 2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left over is too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 lower multiple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236232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36232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236232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ch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Queen        Princess           Prince       Duchess     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36576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38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410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+ 3 + 3 + 3 + 3 + 3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6 of 24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5 of 20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of 16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low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6 of 18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5 of 1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s what was left so 6 people X 3 = 18 m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ant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hess (took ½)  so   3 is half of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    (took 1/3) so 6 is 2/3 of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ss (took ¼)  so 9 is3/4 of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   (took 1/5) so 12 is 4/5 of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      (took 1/6)  so 1 is 5/6 of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2:11:04Z</dcterms:created>
  <dc:creator>Peel District School Board</dc:creator>
  <dc:description/>
  <dc:language>en-US</dc:language>
  <cp:lastModifiedBy>Peel District School Board</cp:lastModifiedBy>
  <dcterms:modified xsi:type="dcterms:W3CDTF">2012-06-23T12:11:40Z</dcterms:modified>
  <cp:revision>1</cp:revision>
  <dc:subject/>
  <dc:title>Math Camppp</dc:title>
</cp:coreProperties>
</file>